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9E17-E6CB-4332-B00E-A5A0DB7EC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A95D-8DB7-4C01-BFF2-20A884AA8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09AF-1CDA-4AD6-A174-9273DDB9E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272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936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644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272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936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FBAE-9385-4F1F-8078-BB9CCD78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32FB-05B9-4BA4-B732-99552F05DA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D7B0-BAC9-421D-AE82-EB7664AA69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8573-6E5E-4D22-95D1-9CCD97673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4E12-5658-4FD0-AF66-5BF726736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967A-A324-4F25-825F-F98B7D8C53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76440" y="609120"/>
            <a:ext cx="859608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1D7C-FCFF-457E-B534-E706F3FD8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8CF2-458F-414E-B300-F8E27538A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F0F6-FAC1-4013-A48B-EF045C31C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1847-4AE1-4DC9-8167-8EBFDBFFF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DF5B-6946-480F-BA39-44448345E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CE50-9250-40C7-B2D4-65F29BABFD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BF03-7136-4582-8FC0-E18FC06C13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272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89360" y="21607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7644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272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89360" y="4614120"/>
            <a:ext cx="27676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D5C2-C251-494B-AB79-21369B39B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3103-E259-48DD-AC71-6249384C7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00F5-16B2-4D7E-BBD7-BB8CF5932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BF43-1C96-4FDA-9D17-E0415C314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6440" y="609120"/>
            <a:ext cx="859608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DEC2-14B8-4E0F-85F6-2F246C312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FEE0-9D28-4AD4-8843-31243111B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81400" y="46141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73F0-177C-4E10-BC67-9756DC271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644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1400" y="2160720"/>
            <a:ext cx="419472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6440" y="4614120"/>
            <a:ext cx="8596080" cy="22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0B4A-6A48-4806-B6A8-5EE462D77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6600" y="688680"/>
            <a:ext cx="7765920" cy="33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6600" y="4049280"/>
            <a:ext cx="7765920" cy="280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1" marL="380880" algn="r">
              <a:spcBef>
                <a:spcPts val="1001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2" marL="838080" algn="r">
              <a:spcBef>
                <a:spcPts val="1001"/>
              </a:spcBef>
              <a:buClr>
                <a:srgbClr val="878787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3" marL="1295280" algn="r">
              <a:spcBef>
                <a:spcPts val="1001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4" marL="1752480" algn="r">
              <a:spcBef>
                <a:spcPts val="1001"/>
              </a:spcBef>
              <a:buClr>
                <a:srgbClr val="878787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5" marL="1752480" algn="r">
              <a:spcBef>
                <a:spcPts val="100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  <a:p>
            <a:pPr lvl="6" marL="1752480" algn="r">
              <a:spcBef>
                <a:spcPts val="100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050400" y="6189480"/>
            <a:ext cx="234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E3CB-7D22-4F9D-B36B-CB19D7A89160}" type="slidenum">
              <a: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6440" y="609120"/>
            <a:ext cx="8596080" cy="1551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76440" y="2160720"/>
            <a:ext cx="8596080" cy="469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1" marL="66672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106668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3" marL="152388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4" marL="198108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5" marL="198108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6" marL="198108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9050400" y="6189480"/>
            <a:ext cx="234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020-0B91-4510-9221-BB918E52F238}" type="slidenum">
              <a:rPr b="0" lang="en-US" sz="900" spc="-1" strike="noStrike">
                <a:solidFill>
                  <a:srgbClr val="90c226"/>
                </a:solidFill>
                <a:latin typeface="Trebuchet MS"/>
                <a:ea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iw.pl/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1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7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8931240" y="3048120"/>
              <a:ext cx="32608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93330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AutoShape 9"/>
            <p:cNvSpPr/>
            <p:nvPr/>
          </p:nvSpPr>
          <p:spPr>
            <a:xfrm>
              <a:off x="10371240" y="3589200"/>
              <a:ext cx="18158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 rot="10800000">
              <a:off x="0" y="0"/>
              <a:ext cx="841320" cy="566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1525320"/>
            <a:ext cx="9410400" cy="3251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Konsultacje społeczne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dotyczące 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Lokalnej Strategii Rozwoju 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na lata 2014-2020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919080" y="333360"/>
            <a:ext cx="1197000" cy="73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2"/>
          <a:stretch/>
        </p:blipFill>
        <p:spPr>
          <a:xfrm>
            <a:off x="6218280" y="407880"/>
            <a:ext cx="579240" cy="58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3"/>
          <a:stretch/>
        </p:blipFill>
        <p:spPr>
          <a:xfrm>
            <a:off x="8234280" y="333360"/>
            <a:ext cx="1200240" cy="800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915840" y="5940360"/>
            <a:ext cx="8813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7818"/>
                </a:solidFill>
                <a:latin typeface="Lucida Grande"/>
                <a:ea typeface="Lucida Grande"/>
              </a:rPr>
              <a:t>	</a:t>
            </a:r>
            <a:r>
              <a:rPr b="0" lang="en-US" sz="1300" spc="-1" strike="noStrike">
                <a:solidFill>
                  <a:srgbClr val="3f7818"/>
                </a:solidFill>
                <a:latin typeface="Arial Bold"/>
                <a:ea typeface="Arial Bold"/>
              </a:rPr>
              <a:t>Spotkania konsultacyjne współfinansowane są przez „Europejski Fundusz Rolny na rzecz Rozwoju Obszarów Wiejskich, Europa inwestująca w obszary wiejskie” w ramach działania </a:t>
            </a:r>
            <a:r>
              <a:rPr b="0" lang="en-US" sz="1300" spc="-1" strike="noStrike">
                <a:solidFill>
                  <a:srgbClr val="3f7818"/>
                </a:solidFill>
                <a:latin typeface="Arial Bold Italic"/>
                <a:ea typeface="Arial Bold Italic"/>
              </a:rPr>
              <a:t>19 Wsparcie dla Rozwoju Lokalnego w ramach inicjatywy LEADER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Picture 17" descr=""/>
          <p:cNvPicPr/>
          <p:nvPr/>
        </p:nvPicPr>
        <p:blipFill>
          <a:blip r:embed="rId4"/>
          <a:stretch/>
        </p:blipFill>
        <p:spPr>
          <a:xfrm>
            <a:off x="3162240" y="76320"/>
            <a:ext cx="16257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05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3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1104840" y="1562040"/>
            <a:ext cx="79884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CEL 1 (PRZEDSIĘBIORCZOŚĆ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liczba stworzonych miejsc pracy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związek z branżą turystyczną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działalność oparta na lokalnych produktach rolnych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szczegółowość analizy rynku i konkurencji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odprowadzanie podatków na obszarze LSR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nie zaleganie z opłatami ZUS i US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Lucida Grande"/>
              </a:rPr>
              <a:t>innowacyjność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18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0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1155600" y="1701720"/>
            <a:ext cx="7886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CEL 2 (INFRASTRUKTURA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rzeprowadzenie konsultacji społecznych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wykorzystanie lokalnych zasobów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rojekty partnerskie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zagospodarowanie linii brzegowej rzeki i/lub jeziora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niska kwota pomocy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wykorzystanie oznakowania spójnego z wzorami LGD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31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2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3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143000" y="1486080"/>
            <a:ext cx="859788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CEL 3 (AKTYWIZACJA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niska kwota pomocy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wyższy wkład własny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artnerstwa międzysektorowe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obszar realizacji działań</a:t>
            </a:r>
            <a:r>
              <a:rPr b="0" lang="pl-PL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– liczba miejscowości i gmin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pl-PL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realizacja więcej niż jednego wydarzenia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uwzględniono uczestników z grup defaworyzowanych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przekazywanie materiałów wytworzonych do biura LGD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3f3f3f"/>
                </a:solidFill>
                <a:latin typeface="Trebuchet MS"/>
                <a:ea typeface="Trebuchet MS"/>
              </a:rPr>
              <a:t>tworzenie materiałów promocyjnych wielojęzycznych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469800" y="203040"/>
            <a:ext cx="2095560" cy="20196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2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45" name="Line 2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Line 3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AutoShape 6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AutoShape 11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6440" y="254160"/>
            <a:ext cx="8596080" cy="1906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KONTAK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81400" y="2222640"/>
            <a:ext cx="4031640" cy="24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ul. Drawska 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73-150 Łobe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Telefon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Biuro - </a:t>
            </a:r>
            <a:r>
              <a:rPr b="1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91 57 37 329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Dyrektor Biura – </a:t>
            </a:r>
            <a:r>
              <a:rPr b="1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605 270 53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Koordynator Projektów – </a:t>
            </a:r>
            <a:r>
              <a:rPr b="1" lang="en-US" sz="18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691 060 48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www.lobez.or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4901760" y="1854360"/>
            <a:ext cx="47329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BIURO CENTRUM INICJATYW WIEJSKICH CZYNNE</a:t>
            </a:r>
            <a:br>
              <a:rPr sz="1400"/>
            </a:b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OD PONIEDZIAŁKU DO PIĄTKU </a:t>
            </a:r>
            <a:br>
              <a:rPr sz="1400"/>
            </a:b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W GODZINACH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Dyrektor biura Bożena Zareck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Poniedziałek – 7:00 – 15:0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Wtorek – 7:00 – 15:0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Środa – 7:00-15:0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Koordynator Projektów Ewelina Turkowska-Płowczyk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Wtorek – 8:30 – 14:3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Środa – 8:30 – 14:3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Czwartek – 8:30 – 14:30,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Helvetica Neue"/>
                <a:ea typeface="Helvetica Neue"/>
              </a:rPr>
              <a:t>Piątek – 8:30 – 14:3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5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3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0240" y="269676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0c226"/>
                </a:solidFill>
                <a:latin typeface="Trebuchet MS"/>
              </a:rPr>
              <a:t>Dziękuję za uwagę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1"/>
          <a:stretch/>
        </p:blipFill>
        <p:spPr>
          <a:xfrm>
            <a:off x="919080" y="333360"/>
            <a:ext cx="1197000" cy="730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2"/>
          <a:stretch/>
        </p:blipFill>
        <p:spPr>
          <a:xfrm>
            <a:off x="6218280" y="407880"/>
            <a:ext cx="579240" cy="581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/>
          <p:cNvPicPr/>
          <p:nvPr/>
        </p:nvPicPr>
        <p:blipFill>
          <a:blip r:embed="rId3"/>
          <a:stretch/>
        </p:blipFill>
        <p:spPr>
          <a:xfrm>
            <a:off x="8234280" y="33336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"/>
          <p:cNvPicPr/>
          <p:nvPr/>
        </p:nvPicPr>
        <p:blipFill>
          <a:blip r:embed="rId4"/>
          <a:stretch/>
        </p:blipFill>
        <p:spPr>
          <a:xfrm>
            <a:off x="3162240" y="76320"/>
            <a:ext cx="1625760" cy="15652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7"/>
          <p:cNvSpPr/>
          <p:nvPr/>
        </p:nvSpPr>
        <p:spPr>
          <a:xfrm>
            <a:off x="915840" y="5940360"/>
            <a:ext cx="8813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7818"/>
                </a:solidFill>
                <a:latin typeface="Lucida Grande"/>
                <a:ea typeface="Lucida Grande"/>
              </a:rPr>
              <a:t>	</a:t>
            </a:r>
            <a:r>
              <a:rPr b="0" lang="en-US" sz="1300" spc="-1" strike="noStrike">
                <a:solidFill>
                  <a:srgbClr val="3f7818"/>
                </a:solidFill>
                <a:latin typeface="Arial Bold"/>
                <a:ea typeface="Arial Bold"/>
              </a:rPr>
              <a:t>Spotkania konsultacyjne współfinansowane są przez „Europejski Fundusz Rolny na rzecz Rozwoju Obszarów Wiejskich, Europa inwestująca w obszary wiejskie” w ramach działania </a:t>
            </a:r>
            <a:r>
              <a:rPr b="0" lang="en-US" sz="1300" spc="-1" strike="noStrike">
                <a:solidFill>
                  <a:srgbClr val="3f7818"/>
                </a:solidFill>
                <a:latin typeface="Arial Bold Italic"/>
                <a:ea typeface="Arial Bold Italic"/>
              </a:rPr>
              <a:t>19 Wsparcie dla Rozwoju Lokalnego w ramach inicjatywy LEADER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96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6440" y="280800"/>
            <a:ext cx="8596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HARMONOGRAM SPOTKAN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6440" y="1982880"/>
            <a:ext cx="8596080" cy="48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Analiza SWOT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Podział środków </a:t>
            </a: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budżetowych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P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rojekt celów i przedsięwzięć</a:t>
            </a: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w ramach LSR 2014-2020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Projekt kryteriów </a:t>
            </a:r>
            <a:r>
              <a:rPr b="0" lang="pl-PL" sz="2800" spc="-1" strike="noStrike">
                <a:solidFill>
                  <a:srgbClr val="3f3f3f"/>
                </a:solidFill>
                <a:latin typeface="Trebuchet MS"/>
              </a:rPr>
              <a:t>wyboru</a:t>
            </a: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  <a:p>
            <a:pPr marL="304920" indent="-304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rebuchet MS"/>
              </a:rPr>
              <a:t>Uwagi, opinie, komentarze.</a:t>
            </a:r>
            <a:endParaRPr b="0" lang="en-US" sz="28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6440" y="0"/>
            <a:ext cx="8596080" cy="199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3200" y="1998720"/>
            <a:ext cx="9004320" cy="48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1. Korzystne warunki komunikacyjne, 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2. Duży potencjał inwestycyjny obszaru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3. Liczne szlaki i ścieżki o zróżnicowanym charakterze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4. Rozbudowana sieć rzek i jezior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5. Liczne organizacje pozarządowe,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6. Wysoki poziom lesistości.</a:t>
            </a:r>
            <a:endParaRPr b="0" lang="en-US" sz="24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927720" y="1317600"/>
            <a:ext cx="2596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ILNE STRON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23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7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674640" y="0"/>
            <a:ext cx="862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936360" y="1317600"/>
            <a:ext cx="266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ŁABE STRON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93840" y="1866960"/>
            <a:ext cx="91184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. Dynamiczny wzrost liczby mieszkańców w wieku poprodukcyjnym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2. Niewystarczająca oferta form spędzania czasu wolnego dla mieszkańc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3. Depopulacja obszaru w wyniku migracji i ujemnego przyrostu naturalneg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4. Braki w ofercie społeczno-kulturalnej, nierównomierne rozłożenie infrastruktury kulturalnej, niewystarczająca liczba świetlic wiejskich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. Niski poziom przedsiębiorczości lokal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6. Rosnące bezroboci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7. Brak wypracowanej i popularyzowanej marki region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8. Zły stan infrastruktury komunal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9. Niewielki potencjał przyrodniczy obszar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37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7" name="Rectangle 12"/>
          <p:cNvSpPr/>
          <p:nvPr/>
        </p:nvSpPr>
        <p:spPr>
          <a:xfrm>
            <a:off x="674640" y="0"/>
            <a:ext cx="862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936360" y="1317600"/>
            <a:ext cx="266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ŁABE STRON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457200" y="1879560"/>
            <a:ext cx="1174752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0. Niewystarczająca infrastruktura turystyczna (miejsca noclegowe, mała gastronomia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parkingi, atrakcje, kąpieliska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1. Brak promocji i informacji na temat obszar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2. Wysoki odsetek osób korzystających  z pomocy społecz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3. Znaczny udział bezrobotnych długotrwale pozostających bez pracy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4. Występujące obszary po dawnych PGR z dużym nasileniem problemów społeczn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5. Słabo rozwinięta komunikacja publiczn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6. Niewystarczająco rozbudowana infrastruktura internetow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7. Słabo rozwinięta sieć kanalizacji na obszarach wiejski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8. Niewystarczająca liczba chodnik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9. Niski poziom aktywności społecznej i kulturalnej, w szczególności wśród młodzieży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1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644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980280" y="1317600"/>
            <a:ext cx="145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4714"/>
                </a:solidFill>
                <a:latin typeface="Trebuchet MS"/>
                <a:ea typeface="Trebuchet MS"/>
              </a:rPr>
              <a:t>SZANS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82760" y="1803240"/>
            <a:ext cx="1064232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. Wzrost zainteresowania inwestorów krajowych i zagraniczn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2. Wzrost aktywności społecznej i ekonomicznej mieszkańc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3. Plany rozwoju i modernizacji infrastruktury m.in. komunikacyjnej obejmujące obszar LGD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4. Zwiększenie potencjału administracyjnego i finansowego lokalnych organizacji pozarządow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. Promocja obszar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6. Rozbudowa sieci ścieżek rowerow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7. Rozwój usług dla seniorów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8. Rozwój turystyki na obszarz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9. Rozbudowa bazy noclegowej i gastronomicznej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0. Aktywizacja społeczności poprzez działania międzypokoleniow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65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7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9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3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4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6440" y="0"/>
            <a:ext cx="8596080" cy="216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Analiza SWOT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po uwzględnieniu uwag mieszkańców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931680" y="116856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691e"/>
                </a:solidFill>
                <a:latin typeface="Trebuchet MS"/>
                <a:ea typeface="Trebuchet MS"/>
              </a:rPr>
              <a:t>ZAGROŻENIA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622440" y="1714680"/>
            <a:ext cx="9524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. Niekorzystne trendy demograficzne - „starzenie się” społeczeństw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2. Niewystarczające środki finansowe na realizację ważnych inicjatyw rozwojowych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3. Opuszczanie terenu LGD przez osoby młode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4. Niestabilność makroekonomiczn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. Zanieczyszczenie środowiska naturalneg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6. Zanieczyszczenie powietrza w wyniku ogrzewania domów i mieszkań piecami węglowymi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7. Skomplikowane przepisy, biurokracj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8. Brak rozwojowych programów władzy centralnej skierowanych na obszary peryferyjne kraju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9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1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0480" y="280800"/>
            <a:ext cx="8596440" cy="1879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 Bold"/>
                <a:ea typeface="Trebuchet MS Bold"/>
              </a:rPr>
              <a:t>Dostępne środki finansow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8600" y="952560"/>
          <a:ext cx="10872720" cy="5924520"/>
        </p:xfrm>
        <a:graphic>
          <a:graphicData uri="http://schemas.openxmlformats.org/drawingml/2006/table">
            <a:tbl>
              <a:tblPr/>
              <a:tblGrid>
                <a:gridCol w="384120"/>
                <a:gridCol w="1668600"/>
                <a:gridCol w="2979720"/>
                <a:gridCol w="2397240"/>
                <a:gridCol w="2131920"/>
                <a:gridCol w="1311120"/>
              </a:tblGrid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Cel ogó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Cel szczegóło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Przedsięwzię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Budż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85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Wsparcie rozwoju gospodarczego i konkurencyjności obszaru LSR do 2022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Rozwój przedsiębiorczości na obszarze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Tworzenie nowych fi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0 tys PLN na beneficj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2,5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78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Nowe miejsca pracy w firmach istniejąc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Wzmocnienie atrakcyjności obszaru LSR do 2022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Rozbudowa i poprawa standardu infrastruktury turystycznej, rekreacyjnej i kulturalnej oraz poprawa estetyki przestrzeni publicznej na obszarze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Inwestycje infrastrukturalne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procedura konkurs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1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</a:tr>
              <a:tr h="90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Zagospodarowanie przestrzeni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jekty gra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Aktywizacja mieszkańców obszaru LSR i wspieranie włączenia społecznego do 2022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ktywizacja i integracja mieszkańców obszaru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ziałania aktywizujące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kty gra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Lucida Grande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Grande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Lucida Grande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Promocja zasobów lokalnych obszaru LSR do 2022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ocja i informacj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kty grant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0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 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5568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RAZE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606840"/>
                          <a:tab algn="l" pos="4051440"/>
                          <a:tab algn="l" pos="450864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58280"/>
                          <a:tab algn="l" pos="8102520"/>
                          <a:tab algn="l" pos="85597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807560"/>
                          <a:tab algn="l" pos="11252160"/>
                          <a:tab algn="l" pos="11709360"/>
                          <a:tab algn="l" pos="12153960"/>
                          <a:tab algn="l" pos="12611160"/>
                          <a:tab algn="l" pos="13055760"/>
                          <a:tab algn="l" pos="13512960"/>
                          <a:tab algn="l" pos="13957200"/>
                          <a:tab algn="l" pos="144018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5 ml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1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92" name="Line 1"/>
            <p:cNvSpPr/>
            <p:nvPr/>
          </p:nvSpPr>
          <p:spPr>
            <a:xfrm>
              <a:off x="9369360" y="0"/>
              <a:ext cx="121932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3" name="Line 2"/>
            <p:cNvSpPr/>
            <p:nvPr/>
          </p:nvSpPr>
          <p:spPr>
            <a:xfrm flipH="1">
              <a:off x="7424640" y="3681360"/>
              <a:ext cx="4764240" cy="3176640"/>
            </a:xfrm>
            <a:prstGeom prst="line">
              <a:avLst/>
            </a:prstGeom>
            <a:ln cap="rnd"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4" name="Freeform 3"/>
            <p:cNvSpPr/>
            <p:nvPr/>
          </p:nvSpPr>
          <p:spPr>
            <a:xfrm>
              <a:off x="9180360" y="-7920"/>
              <a:ext cx="300852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92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4692" y="0"/>
                  </a:lnTo>
                  <a:close/>
                  <a:moveTo>
                    <a:pt x="14692" y="0"/>
                  </a:moveTo>
                </a:path>
              </a:pathLst>
            </a:custGeom>
            <a:solidFill>
              <a:srgbClr val="90c22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5" name="Freeform 4"/>
            <p:cNvSpPr/>
            <p:nvPr/>
          </p:nvSpPr>
          <p:spPr>
            <a:xfrm>
              <a:off x="9602640" y="-7920"/>
              <a:ext cx="258948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0092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>
              <a:off x="8931240" y="3048120"/>
              <a:ext cx="3259080" cy="38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54a021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9334440" y="-7920"/>
              <a:ext cx="285444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8697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3f781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10898280" y="-7920"/>
              <a:ext cx="12888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73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17073" y="0"/>
                  </a:lnTo>
                  <a:close/>
                  <a:moveTo>
                    <a:pt x="17073" y="0"/>
                  </a:moveTo>
                </a:path>
              </a:pathLst>
            </a:custGeom>
            <a:solidFill>
              <a:srgbClr val="bfe37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109378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19173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0c22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10371240" y="3589200"/>
              <a:ext cx="1817640" cy="326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0" y="4013280"/>
              <a:ext cx="447840" cy="28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90c22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596080" cy="1308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ryteria wyboru operacji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3440" y="1308240"/>
            <a:ext cx="10541160" cy="6184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7818"/>
                </a:solidFill>
                <a:latin typeface="Trebuchet MS Bold"/>
                <a:ea typeface="Trebuchet MS Bold"/>
              </a:rPr>
              <a:t>Odrębne dla każdego przedsięwzięcia.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7818"/>
                </a:solidFill>
                <a:latin typeface="Trebuchet MS Bold"/>
                <a:ea typeface="Trebuchet MS Bold"/>
              </a:rPr>
              <a:t>Podkreślające zgodność projektów z problemami wykrytymi w diagnozie.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7818"/>
                </a:solidFill>
                <a:latin typeface="Trebuchet MS Bold"/>
                <a:ea typeface="Trebuchet MS Bold"/>
              </a:rPr>
              <a:t>max. 100 pkt, wymagane minimum: 60 pkt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 Bold"/>
                <a:ea typeface="Trebuchet MS Bold"/>
              </a:rPr>
              <a:t>Preferencje horyzontalne: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projekty pozytywnie wpływające na środowisko naturalne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wkład własny beneficjenta/niska kwota pomocy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projekty stworzone z myślą o grupach defaworyzowanych określonych w LSR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preferencje dla mieszkańców i podmiotów pochodzących z obszaru LSR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udział w szkoleniu/doradztwie organizowanym przez LGD,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wykorzystanie lub promowanie lokalnych zasobów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a mow</dc:creator>
  <dc:description/>
  <dc:language>en-US</dc:language>
  <cp:lastModifiedBy>user</cp:lastModifiedBy>
  <dcterms:modified xsi:type="dcterms:W3CDTF">2015-12-01T11:54:05Z</dcterms:modified>
  <cp:revision>5</cp:revision>
  <dc:subject/>
  <dc:title>Warunki realizacji LSR ze środków PO Rybactwo i Morze</dc:title>
</cp:coreProperties>
</file>